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4ED2-DD03-43E6-B2D3-3E34D822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1D48-B761-42B6-9534-8C6B0DC1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901-6986-4EDF-995A-262B23C0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DAD-B897-4FE3-8788-20048098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814-CBB7-4363-984B-7473527F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7523-7656-4F77-BAB4-D9B4B519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4C21-81BD-4454-8313-EC52BAD2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E09-39C4-4969-B05B-08D143B7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8DA-1A37-4D6D-8B28-88D9CC38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FAF-19F8-4F47-BF56-F41C9531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2433-1B98-4F8C-987E-15D7C73F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841-46CA-4C3E-A787-15CF2D63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92C2-E1DF-429F-BF64-D3F2F81FDC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Politika zaměstna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odnadpis 2"/>
          <p:cNvSpPr/>
          <p:nvPr/>
        </p:nvSpPr>
        <p:spPr>
          <a:xfrm>
            <a:off x="0" y="2205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Programové návrhy ČS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348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„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ezaměstnanost je sociální zlo“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Lord Beve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5292720" y="557892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24. 5. 2012, Kulturní dům Krak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chceme vyrábět nezaměstnan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907920"/>
            <a:ext cx="8353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litika současné vlád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Podpora “levné pracovní síly”, jejíž součástí je i tzv. švarcsysté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Další omezování  prostředků na aktivní politiku   zaměstnanosti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Omezování až likvidace sociální ochrany pracující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i nezaměstnaný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Zavádění „nucených prací“ v podobě veřejné služb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nezaměstnaný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Snižování prostředků na celý vzdělávací systé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Nedostatečná podpora tvorby nových pracovních míst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zejména pro znevýhodněné skupin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Úřady práce nepracují s nezaměstnanými individuálně a stávaj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se převážně represivním orgánem státní moci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chceme vyrábět nezaměstnan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Graf 1" descr=""/>
          <p:cNvPicPr/>
          <p:nvPr/>
        </p:nvPicPr>
        <p:blipFill>
          <a:blip r:embed="rId2"/>
          <a:srcRect l="0" t="0" r="0" b="-40"/>
          <a:stretch/>
        </p:blipFill>
        <p:spPr>
          <a:xfrm>
            <a:off x="1692360" y="981000"/>
            <a:ext cx="5759280" cy="3384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692360" y="4365360"/>
            <a:ext cx="575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Zdroj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cká ročenka, ČSÚ 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délník 7"/>
          <p:cNvSpPr/>
          <p:nvPr/>
        </p:nvSpPr>
        <p:spPr>
          <a:xfrm>
            <a:off x="0" y="4635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V ČR je dnes přes půl milionu registrovaných a dalších asi tři sta tisíc neregistrovaných nezaměstnaný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ak nabídnout šanci na prác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280" y="1125000"/>
            <a:ext cx="8388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chod od politiky (ne)jistoty pracovního mí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 politice jistoty pracovního uplatně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vinutí aktivní politiky zaměstnanosti, včetně posílení programů pro vzdělávání a rekvalifikace, péče o profesní rů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0d0d"/>
                </a:solidFill>
                <a:latin typeface="Calibri"/>
              </a:rPr>
              <a:t>Regionální politika zaměřená na boj s vysokou nezaměstnanost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nižování všech forem diskrimin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Široký sociální dialog v centru i na úrovni krajů s</a:t>
            </a:r>
            <a:r>
              <a:rPr b="0" lang="cs-CZ" sz="2400" spc="-1" strike="noStrike">
                <a:solidFill>
                  <a:srgbClr val="0d0d0d"/>
                </a:solidFill>
                <a:latin typeface="Calibri"/>
              </a:rPr>
              <a:t> přizváním sociálních partnerů na všech úrovn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5280" y="1412640"/>
            <a:ext cx="838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sílení konkurenceschopnosti, ekonomického růs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a takového daňového zatížení, které pove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 růstu zdrojů na aktivní politiku zaměstna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vestice do infrastruktury  - vytváření nových pracovních mí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a pracovních míst u sociálních a zdravotních služe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a malých firem v obcích - veřejné zakázky do místní infrastruktury, výstavby bytů, ekol. staveb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tlačování černého a šedého trhu prá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3"/>
          <p:cNvSpPr/>
          <p:nvPr/>
        </p:nvSpPr>
        <p:spPr>
          <a:xfrm>
            <a:off x="0" y="11592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Calibri"/>
              </a:rPr>
              <a:t>Hospodářská politika podporujíc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Calibri"/>
              </a:rPr>
              <a:t>vytváření nových pracovních mí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bdélník 1"/>
          <p:cNvSpPr/>
          <p:nvPr/>
        </p:nvSpPr>
        <p:spPr>
          <a:xfrm>
            <a:off x="1547640" y="1484280"/>
            <a:ext cx="5992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robněji viz Zelená kniha ČSSD k zaměstnanosti dostupná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://www.cssd.cz/data/files/politika-zamestnanosti_sestava-1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4:40:16Z</dcterms:created>
  <dc:creator>Honza</dc:creator>
  <dc:description/>
  <dc:language>en-US</dc:language>
  <cp:lastModifiedBy>jstoll</cp:lastModifiedBy>
  <dcterms:modified xsi:type="dcterms:W3CDTF">2012-05-23T12:45:02Z</dcterms:modified>
  <cp:revision>32</cp:revision>
  <dc:subject/>
  <dc:title>Kvalitní vzdělání dostupné všem</dc:title>
</cp:coreProperties>
</file>